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BB8-37E8-403E-886E-EFDEF195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B05-98BE-45EA-B8F4-3ECB92A8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321-1F84-47FB-92E1-EEAD087C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9A0-226C-4B00-9C57-61E1842E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6E8-76BD-4722-83CA-AF4A6076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D93-6269-43E6-BDF9-FA5570F4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EC9-1456-442E-9211-9F1712D1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466-BEFF-473B-81EE-55ED6A87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96B-3958-4D05-9D3C-C4CE1AD6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FED-B8EF-46BC-95A1-C958091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89D-10FE-4D36-B9CA-DFBA1EF0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AC0-265A-4BF6-BF60-7697E0C3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050D-39A1-4ACF-8951-21F214EB8B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9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6840720" cy="5940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7962120" y="6093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2"/>
          <p:cNvSpPr/>
          <p:nvPr/>
        </p:nvSpPr>
        <p:spPr>
          <a:xfrm>
            <a:off x="2340000" y="1268280"/>
            <a:ext cx="21600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767720" cy="532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7888680" y="5877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5688000" cy="6448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71000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468360" y="1628640"/>
                <a:ext cx="8507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3068640"/>
                <a:ext cx="863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7817400" y="6165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324480" cy="6105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ая соединительная линия 3"/>
          <p:cNvSpPr/>
          <p:nvPr/>
        </p:nvSpPr>
        <p:spPr>
          <a:xfrm>
            <a:off x="1979640" y="393372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624720" cy="5567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7889760" y="6093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5292720" y="907920"/>
            <a:ext cx="2087640" cy="324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5789520" cy="5315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"/>
          <p:cNvSpPr/>
          <p:nvPr/>
        </p:nvSpPr>
        <p:spPr>
          <a:xfrm>
            <a:off x="1476360" y="907920"/>
            <a:ext cx="914400" cy="7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895640" cy="6421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5545080" cy="6568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774540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1042920" y="4149720"/>
            <a:ext cx="1297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6267600" cy="6458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962120" y="6165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5"/>
          <p:cNvSpPr/>
          <p:nvPr/>
        </p:nvSpPr>
        <p:spPr>
          <a:xfrm>
            <a:off x="2050920" y="1341360"/>
            <a:ext cx="217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2195640" y="1557360"/>
            <a:ext cx="225360" cy="27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8"/>
          <p:cNvSpPr/>
          <p:nvPr/>
        </p:nvSpPr>
        <p:spPr>
          <a:xfrm>
            <a:off x="1763640" y="1700280"/>
            <a:ext cx="21600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30T15:05:03Z</dcterms:created>
  <dc:creator>User</dc:creator>
  <dc:description/>
  <dc:language>en-US</dc:language>
  <cp:lastModifiedBy>User</cp:lastModifiedBy>
  <dcterms:modified xsi:type="dcterms:W3CDTF">2021-04-25T11:27:09Z</dcterms:modified>
  <cp:revision>9</cp:revision>
  <dc:subject/>
  <dc:title>Презентация PowerPoint</dc:title>
</cp:coreProperties>
</file>